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010B-FF54-4D82-A243-5695AC13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DDA0-94D6-4C2E-B300-F3308CA3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24275-260E-4BD9-823C-A483107B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BA80-3F7D-4993-8E7B-ED6D7631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8753-0F3E-486A-BF58-5C4CB1B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3D38-60E5-4641-B979-FE2BA838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700E-841C-446E-A374-134C29A5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3D59-F255-419D-B28F-32C05DF7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E6F2-8609-44E6-BAFF-C22DF9F1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757B-BBDD-4A52-B75A-9140FAAF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CBD3-2F12-41D2-BF71-0C54BC4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7A72-AFE8-4AAB-AFAA-7322717E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3C019A-CBC1-4F4E-A501-71DD710D86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zglyadzagran.ru/chelovek_i_obshestvo/staryj-ded-i-vnuchek-basnya-l-n-tolstogo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imated-images.su/photo/animacija/cvety/klever/11-0-1278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55;&#1083;&#1072;&#1090;&#1086;&#1085;&#1086;&#1074;,_&#1040;&#1085;&#1076;&#1088;&#1077;&#1081;_&#1055;&#1083;&#1072;&#1090;&#1086;&#1085;&#1086;&#1074;&#1080;&#1095;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52;&#1077;&#1084;&#1086;&#1088;&#1080;&#1072;&#1083;&#1100;&#1085;&#1072;&#1103;_&#1076;&#1086;&#1089;&#1082;&#1072;_&#1040;&#1085;&#1076;&#1088;&#1077;&#1102;_&#1055;&#1083;&#1072;&#1090;&#1086;&#1085;&#1086;&#1074;&#1091;_&#1074;_&#1051;&#1080;&#1090;&#1077;&#1088;&#1072;&#1090;&#1091;&#1088;&#1085;&#1086;&#1084;_&#1080;&#1085;&#1089;&#1090;&#1080;&#1090;&#1091;&#1090;&#1077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u.wikipedia.org/wiki/&#1060;&#1072;&#1081;&#1083;:&#1055;&#1072;&#1084;&#1103;&#1090;&#1085;&#1080;&#1082;_&#1055;&#1083;&#1072;&#1090;&#1086;&#1085;&#1086;&#1074;&#1091;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veinternet.ru/community/all_birds/post198922809/" TargetMode="External"/><Relationship Id="rId2" Type="http://schemas.openxmlformats.org/officeDocument/2006/relationships/image" Target="../media/image4.gif"/><Relationship Id="rId3" Type="http://schemas.openxmlformats.org/officeDocument/2006/relationships/hyperlink" Target="http://animashki2010.ucoz.ru/photo/animacii_ptic/934484230/26-0-385" TargetMode="External"/><Relationship Id="rId4" Type="http://schemas.openxmlformats.org/officeDocument/2006/relationships/hyperlink" Target="http://animashki2010.ucoz.ru/photo/animacii_ptic/934484230/26-0-385" TargetMode="External"/><Relationship Id="rId5" Type="http://schemas.openxmlformats.org/officeDocument/2006/relationships/hyperlink" Target="http://animashki2010.ucoz.ru/photo/animacii_ptic/934484230/26-0-385" TargetMode="External"/><Relationship Id="rId6" Type="http://schemas.openxmlformats.org/officeDocument/2006/relationships/hyperlink" Target="http://animashki2010.ucoz.ru/photo/animacii_ptic/934484230/26-0-385" TargetMode="External"/><Relationship Id="rId7" Type="http://schemas.openxmlformats.org/officeDocument/2006/relationships/hyperlink" Target="http://akmaya.ru/post202092186/" TargetMode="Externa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veinternet.ru/community/picsearch/tags/%F1%EE%E2%E0/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lestiashki.narod.ru/besplatnye-animashki-na-telefon.htm" TargetMode="External"/><Relationship Id="rId2" Type="http://schemas.openxmlformats.org/officeDocument/2006/relationships/image" Target="../media/image7.gif"/><Relationship Id="rId3" Type="http://schemas.openxmlformats.org/officeDocument/2006/relationships/hyperlink" Target="http://cool-pictures.ucoz.ru/photo/animacija/pejzazhi/pejzazh_derevni/56-0-10275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phv.ru/makovsky/makovsky5.php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biblio.ucoz.ru/load/chto_chitat_o_velikoj_otechestvennoj_vojne/dlja_uchashhikhsja_nachalnykh_klassov/dlja_nachalnykh_klassov/72-1-0-7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900igr.net/kartinki/russkij-jazyk/Poslovitsa/001-Poslovitsy.htm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kpachokamck.ru/forum/index.php?topic=147.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395640" y="1124640"/>
            <a:ext cx="83527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Урок литературного ч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в 3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Тем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А. Платонов. « Цветок на земл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115640" y="548640"/>
            <a:ext cx="7632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2060"/>
                </a:solidFill>
                <a:latin typeface="Century Schoolbook"/>
              </a:rPr>
              <a:t>Деление текста на ча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vu.ua/uploadfiles/fckeditor/image/NALOGI/Ded_i_vnuk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040" y="1700640"/>
            <a:ext cx="3809520" cy="3904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4356000" y="1196640"/>
            <a:ext cx="4536000" cy="56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читайте текст и разделите его на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учно Афоне жить на с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ед 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ять скучно жить на с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снулся нена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печи рядом с де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шли гу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веток – труженик, он из смерти работает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ребешок для д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animated-images.su/_ph/11/2/57090952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3640" y="692640"/>
            <a:ext cx="4200120" cy="5866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4788000" y="332640"/>
            <a:ext cx="360000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пределите главную мысль расск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932000" y="1772640"/>
            <a:ext cx="360000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2060"/>
                </a:solidFill>
                <a:latin typeface="Century Schoolbook"/>
              </a:rPr>
              <a:t>( Цветок этот – самый труженик, он из смерти работает жизнь. Люди- пахари, хлебу помогают расти. Труд делает жизнь, создаёт её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/>
          <p:cNvSpPr/>
          <p:nvPr/>
        </p:nvSpPr>
        <p:spPr>
          <a:xfrm>
            <a:off x="1619640" y="277200"/>
            <a:ext cx="576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2060"/>
                </a:solidFill>
                <a:latin typeface="Century Schoolbook"/>
              </a:rPr>
              <a:t>Итог уро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95640" y="1556640"/>
            <a:ext cx="45716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</a:pPr>
            <a:r>
              <a:rPr b="0" lang="ru-RU" sz="3200" spc="-1" strike="noStrike">
                <a:solidFill>
                  <a:srgbClr val="002060"/>
                </a:solidFill>
                <a:latin typeface="Century Schoolbook"/>
              </a:rPr>
              <a:t>На сегодняшнем уроке я узнал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</a:pPr>
            <a:r>
              <a:rPr b="0" lang="ru-RU" sz="3200" spc="-1" strike="noStrike">
                <a:solidFill>
                  <a:srgbClr val="002060"/>
                </a:solidFill>
                <a:latin typeface="Century Schoolbook"/>
              </a:rPr>
              <a:t>На этом уроке я похвалил бы себя за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</a:pPr>
            <a:r>
              <a:rPr b="0" lang="ru-RU" sz="3200" spc="-1" strike="noStrike">
                <a:solidFill>
                  <a:srgbClr val="002060"/>
                </a:solidFill>
                <a:latin typeface="Century Schoolbook"/>
              </a:rPr>
              <a:t>После урока мне захотелось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fizika-str.ucoz.ru/proffesor.jpg"/>
          <p:cNvPicPr/>
          <p:nvPr/>
        </p:nvPicPr>
        <p:blipFill>
          <a:blip r:embed="rId1"/>
          <a:stretch/>
        </p:blipFill>
        <p:spPr>
          <a:xfrm>
            <a:off x="5220000" y="2026080"/>
            <a:ext cx="3819240" cy="46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Платонов, Андрей Платонович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640" y="620640"/>
            <a:ext cx="2575440" cy="352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Таблица 6"/>
          <p:cNvGraphicFramePr/>
          <p:nvPr/>
        </p:nvGraphicFramePr>
        <p:xfrm>
          <a:off x="-3853080" y="4869000"/>
          <a:ext cx="8229240" cy="1519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6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8 августа 1899(1899-08-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января 1951(1951-01-0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51 го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7"/>
          <p:cNvSpPr/>
          <p:nvPr/>
        </p:nvSpPr>
        <p:spPr>
          <a:xfrm>
            <a:off x="3780000" y="779040"/>
            <a:ext cx="5112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ндрей Платонович Климентов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латонов) родился 28 августа по новому стилю 1899 года в Воронеже (Ямская слоб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тец — Климентов Платон Фирсович (1870—1952) работал машинистом паровоза и слесарем в воронежских железнодорожных мастерских.. Мать — Лобочихина Мария Васильевна (1874/75 — 1928/29) — дочь часового мастера, домохозяйка, мать одиннадцати (десяти) детей, Андрей — старший.  Андрей, как старший, принимает участие в воспитании и, позднее, прокормлении всех своих братьев и сестё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323640" y="188640"/>
            <a:ext cx="46080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латонов умер 5 января 1951 года в Москве от туберкулёза, которым заразился, ухаживая за вышедшим из заключения сыном, у которого в свою очередь уже был свой ребёнок, Платонов успел стать дедом.  У писателя осталась дочь — Мария Платонова, которая готовила книги отца к изд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upload.wikimedia.org/wikipedia/commons/thumb/e/e7/%D0%9C%D0%B5%D0%BC%D0%BE%D1%80%D0%B8%D0%B0%D0%BB%D1%8C%D0%BD%D0%B0%D1%8F_%D0%B4%D0%BE%D1%81%D0%BA%D0%B0_%D0%90%D0%BD%D0%B4%D1%80%D0%B5%D1%8E_%D0%9F%D0%BB%D0%B0%D1%82%D0%BE%D0%BD%D0%BE%D0%B2%D1%83_%D0%B2_%D0%9B%D0%B8%D1%82%D0%B5%D1%80%D0%B0%D1%82%D1%83%D1%80%D0%BD%D0%BE%D0%BC_%D0%B8%D0%BD%D1%81%D1%82%D0%B8%D1%82%D1%83%D1%82%D0%B5.JPG/250px-%D0%9C%D0%B5%D0%BC%D0%BE%D1%80%D0%B8%D0%B0%D0%BB%D1%8C%D0%BD%D0%B0%D1%8F_%D0%B4%D0%BE%D1%81%D0%BA%D0%B0_%D0%90%D0%BD%D0%B4%D1%80%D0%B5%D1%8E_%D0%9F%D0%BB%D0%B0%D1%82%D0%BE%D0%BD%D0%BE%D0%B2%D1%83_%D0%B2_%D0%9B%D0%B8%D1%82%D0%B5%D1%80%D0%B0%D1%82%D1%83%D1%80%D0%BD%D0%BE%D0%BC_%D0%B8%D0%BD%D1%81%D1%82%D0%B8%D1%82%D1%83%D1%82%D0%B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8000" y="209880"/>
            <a:ext cx="2381040" cy="3171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5868000" y="3861000"/>
            <a:ext cx="2736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емориальная доска на здании Литературного института в Москве (Тверской бульвар,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upload.wikimedia.org/wikipedia/commons/thumb/a/a3/%D0%9F%D0%B0%D0%BC%D1%8F%D1%82%D0%BD%D0%B8%D0%BA_%D0%9F%D0%BB%D0%B0%D1%82%D0%BE%D0%BD%D0%BE%D0%B2%D1%83.JPG/250px-%D0%9F%D0%B0%D0%BC%D1%8F%D1%82%D0%BD%D0%B8%D0%BA_%D0%9F%D0%BB%D0%B0%D1%82%D0%BE%D0%BD%D0%BE%D0%B2%D1%8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3565800"/>
            <a:ext cx="2381040" cy="1790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318600" y="5661360"/>
            <a:ext cx="396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амятник Андрею Платонов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0.liveinternet.ru/images/attach/c/4/81/253/81253576_483159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640" y="404640"/>
            <a:ext cx="3866760" cy="30571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ая выноска 3"/>
          <p:cNvSpPr/>
          <p:nvPr/>
        </p:nvSpPr>
        <p:spPr>
          <a:xfrm>
            <a:off x="4644000" y="836640"/>
            <a:ext cx="4104000" cy="3600000"/>
          </a:xfrm>
          <a:prstGeom prst="wedgeRectCallout">
            <a:avLst>
              <a:gd name="adj1" fmla="val -82717"/>
              <a:gd name="adj2" fmla="val -32739"/>
            </a:avLst>
          </a:prstGeom>
          <a:solidFill>
            <a:srgbClr val="ffff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5184000" y="1067400"/>
            <a:ext cx="30240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ебята, а вы когда-нибудь задумывались над названием каких-нибудь предметов? А об их назначении в жизни? Приведите примеры. Сегодня мы познакомимся с рассказом Платонова «Цветок на земле» Как понимаете название? О чём расска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rId3"/>
          </p:cNvPr>
          <p:cNvSpPr/>
          <p:nvPr/>
        </p:nvSpPr>
        <p:spPr>
          <a:xfrm>
            <a:off x="4410000" y="-1350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AutoShape 8">
            <a:hlinkClick r:id="rId4"/>
          </p:cNvPr>
          <p:cNvSpPr/>
          <p:nvPr/>
        </p:nvSpPr>
        <p:spPr>
          <a:xfrm>
            <a:off x="4562640" y="176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AutoShape 10">
            <a:hlinkClick r:id="rId5"/>
          </p:cNvPr>
          <p:cNvSpPr/>
          <p:nvPr/>
        </p:nvSpPr>
        <p:spPr>
          <a:xfrm>
            <a:off x="4714920" y="169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AutoShape 15">
            <a:hlinkClick r:id="rId6"/>
          </p:cNvPr>
          <p:cNvSpPr/>
          <p:nvPr/>
        </p:nvSpPr>
        <p:spPr>
          <a:xfrm>
            <a:off x="4867200" y="322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" name="Picture 19" descr="http://muzotkrytka.narod.ru/animashki/bukety/48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42640" y="3069000"/>
            <a:ext cx="2277720" cy="337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mg1.liveinternet.ru/images/attach/c/0/38/268/38268326_Buho20biblioteca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640" y="76320"/>
            <a:ext cx="3333240" cy="3333240"/>
          </a:xfrm>
          <a:prstGeom prst="rect">
            <a:avLst/>
          </a:prstGeom>
          <a:ln w="0">
            <a:noFill/>
          </a:ln>
        </p:spPr>
      </p:pic>
      <p:sp>
        <p:nvSpPr>
          <p:cNvPr id="66" name="Овальная выноска 3"/>
          <p:cNvSpPr/>
          <p:nvPr/>
        </p:nvSpPr>
        <p:spPr>
          <a:xfrm>
            <a:off x="3513240" y="260640"/>
            <a:ext cx="3578760" cy="719640"/>
          </a:xfrm>
          <a:prstGeom prst="wedgeEllipseCallout">
            <a:avLst>
              <a:gd name="adj1" fmla="val -86834"/>
              <a:gd name="adj2" fmla="val 122466"/>
            </a:avLst>
          </a:prstGeom>
          <a:solidFill>
            <a:srgbClr val="ffff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428000" y="435960"/>
            <a:ext cx="2232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ловар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356000" y="1325880"/>
            <a:ext cx="324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умор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4428000" y="1889640"/>
            <a:ext cx="266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у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4428000" y="2493000"/>
            <a:ext cx="230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ын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4428000" y="3141000"/>
            <a:ext cx="324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4428000" y="3776760"/>
            <a:ext cx="216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глаза смеж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368960" y="4428000"/>
            <a:ext cx="302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закр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4356000" y="4901040"/>
            <a:ext cx="288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осерч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4376160" y="5461200"/>
            <a:ext cx="223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рассерд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blestiashki.narod.ru/2/12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640" y="476640"/>
            <a:ext cx="3381120" cy="2371320"/>
          </a:xfrm>
          <a:prstGeom prst="rect">
            <a:avLst/>
          </a:prstGeom>
          <a:ln w="0">
            <a:noFill/>
          </a:ln>
        </p:spPr>
      </p:pic>
      <p:sp>
        <p:nvSpPr>
          <p:cNvPr id="77" name="Овальная выноска 3"/>
          <p:cNvSpPr/>
          <p:nvPr/>
        </p:nvSpPr>
        <p:spPr>
          <a:xfrm>
            <a:off x="3564000" y="332640"/>
            <a:ext cx="4680000" cy="863640"/>
          </a:xfrm>
          <a:prstGeom prst="wedgeEllipseCallout">
            <a:avLst>
              <a:gd name="adj1" fmla="val -78899"/>
              <a:gd name="adj2" fmla="val 71318"/>
            </a:avLst>
          </a:prstGeom>
          <a:solidFill>
            <a:srgbClr val="ffff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4500000" y="620640"/>
            <a:ext cx="266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читайте по слог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860000" y="1917000"/>
            <a:ext cx="367200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ро-сы-па-ет-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Рав-но-душ-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е-ре-вян-но-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Жал-конь-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д-ка-ра-у-ли-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е-по-нят-ли-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cool-pictures.ucoz.ru/_ph/56/2/115734059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5680" y="2848320"/>
            <a:ext cx="4224960" cy="31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tphv.ru/makovsky/gam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2640"/>
            <a:ext cx="5127120" cy="3753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5784480" y="692640"/>
            <a:ext cx="273600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читайте рас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нравился ли вам рассказ? 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р называет Афоню добрым внуком, а вы как счит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108160" y="260640"/>
            <a:ext cx="5024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абота над содерж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1115640" y="404640"/>
            <a:ext cx="7920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Работа над содержанием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://schoolbiblio.ucoz.ru/_ld/0/4042963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560" y="1080000"/>
            <a:ext cx="3921480" cy="5323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212000" y="1080000"/>
            <a:ext cx="439200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чему Афоне стало «скучно жить на свет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ы говорили о том, что Афоня очень хорошо относился к деду. Прочитайте отрывки об э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читайте выразительно диалог  Афони и д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кие вопросы вы задаёте взрослым, о чём хотите узн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 каком удивительном чуде узнал Афоня от своего деда? Прочитайте эпизоды, в которых дед рассказывает о цветке маленькому вну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ъясните, как вы понимаете смысл таких слов «Дед…погладил головку внуку и посмотрел на него, как на цветок, растущий в земле». О чём подумал де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900igr.net/datas/russkij-jazyk/Poslovitsa/0001-001-Poslovits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0560" y="260640"/>
            <a:ext cx="3209400" cy="2406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img0.liveinternet.ru/images/attach/c/0/42/514/42514284_1239699158_SSORA22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2853000"/>
            <a:ext cx="2384640" cy="3584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3852000" y="548640"/>
            <a:ext cx="475200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рочитайте пословицы и поговорки. Объясните их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о шестнадцати лет кровь греет, до семидесяти – шуба, а дальше-то уж и не знаю ч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 старость не страшна, коли молодые помог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олодость летает пташкой, а старость ползает черепа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е обижай малого, уважай старшего – сам в почёте буд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328</TotalTime>
  <Application>LibreOffice/7.4.7.2$Linux_X86_64 LibreOffice_project/40$Build-2</Application>
  <AppVersion>15.0000</AppVersion>
  <Words>539</Words>
  <Paragraphs>67</Paragraphs>
  <Company>H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0:55:56Z</dcterms:created>
  <dc:creator>Валюшка</dc:creator>
  <dc:description/>
  <dc:language>en-US</dc:language>
  <cp:lastModifiedBy>Наташа</cp:lastModifiedBy>
  <dcterms:modified xsi:type="dcterms:W3CDTF">2020-04-06T13:39:48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